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E87E-F7AF-4B09-BB91-58FF880CC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CB01-E653-40FF-B870-E54EB5283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CBC-E9F0-4D0D-A061-1ED4D8B17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438-095C-4016-9D7A-BBE93FD1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9C1-0237-4B35-9948-0973EC49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7ED-9399-4427-85E8-F52BBD7A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2EE-7D31-4C92-ABF6-80BF32C9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34E-EFD0-44DA-A533-AC072EC1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5F2-73A2-40E8-89B2-92A30CB0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C4B-2B28-4C61-8D2A-D6EB277E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DD6-2236-4AC5-9900-49F0971D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61B-59F2-4CBB-9999-F7F0BB6E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08C-B725-4D3E-859E-A4F4316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D04-9819-4C1E-B418-4ABE1FE1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F35-5608-4942-BF6B-FA9F1142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5C3B-E5D2-418B-AFC6-9E8A7B2FD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748720" y="494172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.uk/" TargetMode="External"/><Relationship Id="rId2" Type="http://schemas.openxmlformats.org/officeDocument/2006/relationships/hyperlink" Target="http://spaceflightnow.com/news/n0211/04soho/sun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advantages and disadvantag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fferent renewable energy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ut your nam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Extra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small picture of the Sun to the slides where the energy resource comes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time, you can add pictures to illustrate the text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to 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co.u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on ‘Images’.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enter “geothermal energy” or “wave energy”, etc.,  to find pictur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ourtesy of SOHO/NASA/ES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su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260280"/>
            <a:ext cx="13986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Physics For 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nd most of the information you need on page 14 of your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ut and paste a text bo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on the textbox to selec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-click the box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then choose “Cut” from the m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to the slide where you want to put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-click on the slide, then select “Paste” from the m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ove a text bo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 the box border with the m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idal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876920" y="3429000"/>
            <a:ext cx="3814560" cy="23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needs a place with high 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affects the ecology of th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expensive to bui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685800" y="1371600"/>
            <a:ext cx="38149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it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wind can be used to turn turbines and generators, to make electri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4876920" y="1371600"/>
            <a:ext cx="38145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00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ever there are waves, the energy is f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4-03T19:42:25Z</dcterms:modified>
  <cp:revision>58</cp:revision>
  <dc:subject/>
  <dc:title>Renewable sources of energy : Physics for You</dc:title>
</cp:coreProperties>
</file>