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93A-0364-40F1-8085-78179239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3CC-7794-4B1E-86EF-9214BD62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35B-C840-486F-96B6-61262E53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BAA-D340-4325-B78D-11F5210F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36B-F951-4D63-8711-2C60DDC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2C1-6E36-43CE-B067-ACBA9103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E2D-D953-4324-89B7-0076E4B5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551-C22A-4395-A16E-1F4DF57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136-BB8B-4FBE-B9E6-0B2B4DA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12B-31F4-4CF3-9296-CB12DA1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6B9-407B-46C5-9AAF-2D68338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44A-3828-4901-A88C-FC787887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BDA8-CAFC-4B88-95BF-16F10E6CF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498960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2"/>
          <p:cNvSpPr/>
          <p:nvPr/>
        </p:nvSpPr>
        <p:spPr>
          <a:xfrm>
            <a:off x="762120" y="175248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articles are arrange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each state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forces that act betwee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explain diffusion in terms of particle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762120" y="380880"/>
            <a:ext cx="6705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4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3:38Z</dcterms:modified>
  <cp:revision>10</cp:revision>
  <dc:subject>Physics for You Support File</dc:subject>
  <dc:title>Physics for You</dc:title>
</cp:coreProperties>
</file>