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D29-845C-4553-AEF7-803D4C3C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A03-2268-48B4-9F1A-F96D0450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8E0-7B84-44DD-B7A9-58583A1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8D1-4474-44C2-8885-E4019AD4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0AD-5E33-444A-96E6-7DFD3DC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D93-631A-402A-8849-07F1998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B4C-267C-4AFD-B965-C2E954F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940-7A56-4F87-BA02-9FAB2205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7A2-21B0-409B-8084-35E0DF91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64F-CBDD-4C04-AFE6-D9668D3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D63-3D89-422C-9B31-E135C65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F07-A09A-4F58-9ACE-079BC4A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255B-4693-4EB2-9365-B6A8F1B436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2 -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2 :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00000" y="1268280"/>
            <a:ext cx="727236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‘base unit’ for length is the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is measured 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/100 of a metre is called a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Physics, time is measured 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wton is the unit we use f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unit for energy is named afte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r James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ga’ means a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e millionth is written as 10</a:t>
            </a:r>
            <a:r>
              <a:rPr b="1" lang="en-GB" sz="2400" spc="-1" strike="noStrike" baseline="5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 baseline="50000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pter 2 :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1268280"/>
            <a:ext cx="727236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‘base unit’ for length is the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is measured 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/100 of a metre is called a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Physics, time is measured i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wton is the unit we use f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unit for energy is named afte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r James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ga’ means a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e millionth is written as 10</a:t>
            </a:r>
            <a:r>
              <a:rPr b="1" lang="en-GB" sz="2400" spc="-1" strike="noStrike" baseline="5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 baseline="50000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84720" y="1258920"/>
            <a:ext cx="129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487760" y="1806480"/>
            <a:ext cx="237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kil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380200" y="2349360"/>
            <a:ext cx="208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ntim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031080" y="2905200"/>
            <a:ext cx="208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307200" y="3457440"/>
            <a:ext cx="165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019320" y="4362480"/>
            <a:ext cx="16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J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843360" y="4913280"/>
            <a:ext cx="208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770440" y="54450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3T19:40:59Z</dcterms:modified>
  <cp:revision>23</cp:revision>
  <dc:subject>Physics for You Support File</dc:subject>
  <dc:title>Physics for You</dc:title>
</cp:coreProperties>
</file>