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276-3753-454E-8BFA-3CFE04C0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23F-B90F-43C1-B28F-739C4BBF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8F4-42F3-44AF-ACC9-7A36F983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D35-D4E2-4904-958D-6BD6B721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524-B2F5-4195-849E-7B0D083A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3FE-A5A2-4D9D-8D9D-589E6E8F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C89-81E6-48CE-BBF7-627BD3D6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678-E31F-4C8B-AA71-172D6041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9EC-17D3-4D38-925D-B6D195C4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E88-0FE2-41D6-AE43-30BE554A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9C9-48AA-4E34-991A-EEEE74D0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30D-689A-4365-9021-B3EE5E04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0220-745E-45BD-A035-502CA8FB12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0846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762120" y="380880"/>
            <a:ext cx="6705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2 : 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62120" y="2023920"/>
            <a:ext cx="77724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8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nits for:  mass, length, time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ce, energ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8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e modify the units to deal with very large and very small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</cp:lastModifiedBy>
  <dcterms:modified xsi:type="dcterms:W3CDTF">2017-04-03T19:40:19Z</dcterms:modified>
  <cp:revision>8</cp:revision>
  <dc:subject>Physics for You Support File</dc:subject>
  <dc:title>Physics for You</dc:title>
</cp:coreProperties>
</file>