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8A3-05A1-4A5A-B49E-9B814D2A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8D6-98F0-47FE-84B4-3E008BF2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1B1-2DAA-4715-A8D1-74ADB747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80C-E690-40DC-97BD-E40FAFE7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6F9-0DB1-436B-8D1D-9FC7644A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88D-1AD9-4263-AD16-8D6FABE5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3FFA-1A82-42FE-AA95-C0957AA4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492-C52B-4D0B-BCF5-CE8C5369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5E0-EF8E-46E8-9DAC-92B2CA72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F2C-BCB8-4C10-8E96-ADEA8F77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76C-90DA-4ED6-A877-8B059571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ACF-5069-4F19-9796-972117ED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5E06-0AFC-45A0-A457-CA5A68FD06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675640" y="522936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62120" y="57150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3 – Energy and Energy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762120" y="1366920"/>
            <a:ext cx="792468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owerPoint file contains the Plenary for this chapter in </a:t>
            </a:r>
            <a:br>
              <a:rPr sz="1800"/>
            </a:br>
            <a:r>
              <a:rPr b="0" i="1" lang="en-GB" sz="1800" spc="-1" strike="noStrike">
                <a:solidFill>
                  <a:srgbClr val="3333cc"/>
                </a:solidFill>
                <a:latin typeface="Arial"/>
              </a:rPr>
              <a:t>Physics For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owerPoint of 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well they have understood each section of work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o view a PowerPoint in ‘Full Screen’ mode, press Function key &lt;F5&gt;, 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(or right-click your mouse and select ‘Full Screen’).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Press &lt;Escape&gt; to go to Edit m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62120" y="3808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hapter 3 :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00000" y="1268280"/>
            <a:ext cx="727236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ergy is measured in unit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moving object ha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bject on a high shelf has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  ____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tteries stor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torch transfer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energy in the battery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ergy heating the room  and energy lighting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762120" y="3808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hapter 3 :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00000" y="1268280"/>
            <a:ext cx="727236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ergy is measured in unit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moving object ha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bject on a high shelf has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  ____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tteries stor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torch transfer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energy in the battery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ergy heating the room  and energy lighting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477120" y="1268280"/>
            <a:ext cx="176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jo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572000" y="1989000"/>
            <a:ext cx="1440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ki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403280" y="3166920"/>
            <a:ext cx="2178000" cy="38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ravit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581280" y="3154320"/>
            <a:ext cx="1981440" cy="38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635280" y="3817800"/>
            <a:ext cx="18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959280" y="4556160"/>
            <a:ext cx="194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2843280" y="4916520"/>
            <a:ext cx="129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762120" y="380880"/>
            <a:ext cx="74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hapter 3 : Energy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62120" y="1143000"/>
            <a:ext cx="7272360" cy="51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pla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what ‘renewable’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are the disadvantages of hydro-electric 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are the advantages of wind 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ar power needs no fuel, and produces no pollution.   So why don’t we use it extensively in the UK?  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ive 2 reas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y do winds blow in the first pl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62120" y="380880"/>
            <a:ext cx="74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hapter 3 : Energy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62120" y="1143000"/>
            <a:ext cx="7272360" cy="51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pla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what ‘renewable’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are the disadvantages of hydro-electric 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are the advantages of wind 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ar power needs no fuel, and produces no pollution.   So why don’t we use it extensively in the UK?  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ive 2 reas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y do winds blow in the first pl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59280" y="190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219320" y="1467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(Based on)  the energy resource won’t run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536920" y="2286000"/>
            <a:ext cx="63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xpensive to build,   floods a larg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257480" y="331488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o pollution,   needs no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247760" y="4781520"/>
            <a:ext cx="75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Very expensive to build,   not enough sunshin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257480" y="5543640"/>
            <a:ext cx="704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olar heating causes convection currents, and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ir moves in to replace the air that has ri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03T19:43:00Z</dcterms:modified>
  <cp:revision>26</cp:revision>
  <dc:subject>Physics for You Support File</dc:subject>
  <dc:title>Physics for You</dc:title>
</cp:coreProperties>
</file>