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A41-06FF-4327-9DF8-6A829144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342-0BCE-405C-AD15-CB66786D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459-4B7D-4E14-918B-B306CF4F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BCC-D9DD-4B66-AA31-01B9CD14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2C7-0263-4122-AAF0-DA362D4F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8E2-FF3C-409E-922D-AE4AC091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92A-7091-4F1A-AD7F-6FDC58EB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215E-1FA2-43E6-AB29-8647BC79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834-33BC-4F2F-82C0-2432DD24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C2F-C077-456B-AEDD-2B97E2D9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83A-91C8-4A91-B181-A6C4B6C6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127-AE56-492C-AF94-2521229D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6C7D-A5E3-4237-94B3-DCDD4836ED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675640" y="494172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62120" y="57150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pter 4 - Molec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762120" y="1366920"/>
            <a:ext cx="792468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owerPoint file contains the Plenary for this chapter in </a:t>
            </a:r>
            <a:br>
              <a:rPr sz="1800"/>
            </a:br>
            <a:r>
              <a:rPr b="0" i="1" lang="en-GB" sz="1800" spc="-1" strike="noStrike">
                <a:solidFill>
                  <a:srgbClr val="3333cc"/>
                </a:solidFill>
                <a:latin typeface="Arial"/>
              </a:rPr>
              <a:t>Physics For Yo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st of these slides are paired with a corresponding slide 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owerPoint of th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well they have understood each section of work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o view a PowerPoint in ‘Full Screen’ mode, press Function key &lt;F5&gt;, 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(or right-click your mouse and select ‘Full Screen’).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Press &lt;Escape&gt; to go to Edit m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62120" y="3808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hapter 4 : Molec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762120" y="1268280"/>
            <a:ext cx="77724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rite a paragraph using the words ‘particle’, ‘atom’, ‘molecule’, to explain what they mean.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diffuses fastest :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li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iqui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gas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s this 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does Brownian motion provide evidence for the molecular theo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762120" y="3808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hapter 4 : Molec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059280" y="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2120" y="1268280"/>
            <a:ext cx="77724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rite a paragraph using the words ‘particle’, ‘atom’, ‘molecule’, to explain what they mean.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diffuses fastest :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li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iqui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gas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s this 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does Brownian motion provide evidence for the molecular theo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244520" y="205740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(Suitable expla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219320" y="3454560"/>
            <a:ext cx="75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ases,  because the particles are moving ver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19320" y="4692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smoke particles are being pushed around by very small objects moving very quick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8532720" y="3357720"/>
            <a:ext cx="611280" cy="316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</cp:lastModifiedBy>
  <dcterms:modified xsi:type="dcterms:W3CDTF">2017-04-03T19:44:15Z</dcterms:modified>
  <cp:revision>24</cp:revision>
  <dc:subject>Physics for You Support File</dc:subject>
  <dc:title>Physics for You</dc:title>
</cp:coreProperties>
</file>