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145-0452-4B22-A8B4-3B2B9BF5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A7F-860E-463A-A304-B91163D8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5D3-AB0D-41D8-A560-B3F8A5DC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7A4-697C-4435-B9E8-0DE59919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F25-1E10-4334-BFE1-A23B263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4E3-7F2E-4C85-B49E-A6DFDFAD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7C9-A78A-412E-BAB3-5905C70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BFB-1264-4BD5-8CBC-71DD2471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620-9E85-45CA-A502-DBB3625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05C-6A10-4FF0-ACEE-438EE89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516-C6BE-4500-A7B6-C88E4DAA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9C9-4EEC-4759-B765-7EA7E043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EC2-9F38-4014-991B-77F07EDDC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762120" y="1752480"/>
            <a:ext cx="77724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stores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is measured in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energy cannot be created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xamples of energy trans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762120" y="380880"/>
            <a:ext cx="6705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nergy and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1752480"/>
            <a:ext cx="777240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resources are renewable, and which are non-renew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ways of generating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lnSpc>
                <a:spcPct val="95000"/>
              </a:lnSpc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we need to conserv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62120" y="380880"/>
            <a:ext cx="6705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nergy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1:43Z</dcterms:modified>
  <cp:revision>10</cp:revision>
  <dc:subject>Physics for You Support File</dc:subject>
  <dc:title>Physics for You</dc:title>
</cp:coreProperties>
</file>